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DF5-CE6B-4D7E-A7EF-BF902905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723-855B-476B-89C7-33B528AF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E84C-DB16-470C-8A66-B36579F5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7B6-75FC-436F-9072-1D174F13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DD6F-26A4-43BB-93FD-D5108DC8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058B-37DF-41D0-AD29-65C2299A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7FD5-5046-48AE-9B36-DD803AC2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8371-12F1-4F86-9944-1546F46D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CC8A-0E13-48B0-8B26-D848603E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9AE2-0000-4E99-9B46-4F26B044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2469-7B89-40DA-8458-DBEFBE8D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AF7-2F3D-45D4-B589-2AA5F6C3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33D9-FC75-4A31-8B29-20238F8B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C7F2-1900-4D57-BBF7-5655C53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7011-59FE-48FA-AA2B-CBB1DC61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1137-454A-45EA-8B4A-956DD720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485C-F10D-4A69-8B63-199C8C65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47A-1866-49A0-83C2-64CD0172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C5E-5951-4736-A2A1-9EB7DD5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C9F-3179-438D-845E-1B66D870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450-B597-45E6-9581-5EAFA3B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D49-7ACE-4C52-B170-DFC39DF2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22A-DB9C-4014-B085-4F871C4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E2C-B781-4ACB-BF93-984DD916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19320" y="1600200"/>
            <a:ext cx="5925960" cy="9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27277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1AEA-6C16-4D08-8E67-4E37983DCB28}" type="slidenum"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7277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04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2495-A963-4B38-90E4-EDB2425EA8E0}" type="slidenum">
              <a:rPr b="0" lang="en-US" sz="1400" spc="-1" strike="noStrike">
                <a:solidFill>
                  <a:srgbClr val="272776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walton.myedesk.org/public.aspx" TargetMode="External"/><Relationship Id="rId2" Type="http://schemas.openxmlformats.org/officeDocument/2006/relationships/hyperlink" Target="http://swalton.myedesk.org/public.aspx" TargetMode="External"/><Relationship Id="rId3" Type="http://schemas.openxmlformats.org/officeDocument/2006/relationships/hyperlink" Target="http://swalton.myedesk.org/public.aspx" TargetMode="External"/><Relationship Id="rId4" Type="http://schemas.openxmlformats.org/officeDocument/2006/relationships/hyperlink" Target="http://swalton.myedesk.org/public.aspx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Nonlinguistic Representations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2776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2776"/>
                </a:solidFill>
                <a:latin typeface="Arial"/>
              </a:rPr>
              <a:t>Visual Literacy 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277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272776"/>
                </a:solidFill>
                <a:latin typeface="Arial"/>
              </a:rPr>
              <a:t>Lynn Burmark</a:t>
            </a: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, Ph.D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</p:txBody>
      </p:sp>
      <p:pic>
        <p:nvPicPr>
          <p:cNvPr id="86" name="Macintosh HD:Users:sfwalton:Desktop:Marzano:Visual Literacy.mov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Types of Intelligence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ychologist Howard Gardner identified the following distinct types of intelligence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Linguistic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Children with this kind of intelligence enjoy writing, reading, telling stories or doing crossword puzzles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Logica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Children with lots of logical intelligence are interested in patterns, categories and relationships. They are drawn to arithmetic problems, strategy games and experiments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Bodily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hese kids process knowledge through bodily sensations. They are often athletic, dancers or good at crafts such as sewing or woodworking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Spatia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These children think in images and pictures. They may be fascinated with mazes or jigsaw puzzles, or spend free time drawing, building with Legos or daydreaming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Musica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Musical children are always singing or drumming to themselves. They are usually quite aware of sounds others may miss. These kids are often discriminating listeners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erpersona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Children who are leaders among their peers, who are good at communicating and who seem to understand others' feelings and motives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Intrapersonal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children may be shy. They are very aware of their own feelings and are self-motivated. </a:t>
            </a: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Many teaching methods are: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Primarily linguistic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Teachers talk about content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Teachers and students read about content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Students are left to their own devices to develop or make connections through nonlinguistic representations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599"/>
              </a:spcAft>
              <a:buClr>
                <a:srgbClr val="27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Nonlinguistic Representations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A variety of activities produce non-linguistic representations in the brain.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Graphic representatio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Descriptive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Time sequence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rocess/cause-effect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Episode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Generalization/principle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4" marL="203652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Concept pattern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hysical model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Mental picture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Pictures and pictographs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27277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2776"/>
                </a:solidFill>
                <a:latin typeface="Arial"/>
              </a:rPr>
              <a:t>Kinesthetic activity</a:t>
            </a:r>
            <a:endParaRPr b="0" lang="en-US" sz="1800" spc="-1" strike="noStrike">
              <a:solidFill>
                <a:srgbClr val="27277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Nonlinguistic representations should elaborate on knowledge.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Graphic Organizers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Linguistic mode - use words and phrases. 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6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2776"/>
                </a:solidFill>
                <a:latin typeface="Arial"/>
              </a:rPr>
              <a:t>Nonlinguistic mode-use symbols and arrows to represent relationships.</a:t>
            </a:r>
            <a:endParaRPr b="0" lang="en-US" sz="28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Six Common Graphic Organizers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Descriptive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demonstrate fact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Time Sequence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chronological order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Process/Cause-Effect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information is organized into a causal network leading to a specific outcome or product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Episode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 organize information about a specific event to include setting, specific people, a specific duration, a specific sequence of events, and a particular cause and effect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Generalization/Principle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organize information into general statements with supporting examples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72776"/>
                </a:solidFill>
                <a:latin typeface="Arial"/>
              </a:rPr>
              <a:t>Concept Patterns</a:t>
            </a:r>
            <a:r>
              <a:rPr b="0" lang="en-US" sz="2000" spc="-1" strike="noStrike">
                <a:solidFill>
                  <a:srgbClr val="272776"/>
                </a:solidFill>
                <a:latin typeface="Arial"/>
              </a:rPr>
              <a:t> - organize information around a word or phrase</a:t>
            </a: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1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72776"/>
                </a:solidFill>
                <a:latin typeface="Arial"/>
              </a:rPr>
              <a:t>Classroom Resources</a:t>
            </a:r>
            <a:endParaRPr b="1" lang="en-US" sz="3600" spc="-1" strike="noStrike">
              <a:solidFill>
                <a:srgbClr val="2727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icrosoft Word - Symbols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Inspiration - On all teacher computers and labs.  See your STS for information and support.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7277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Web resources: 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1"/>
              </a:rPr>
              <a:t>swalton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3"/>
              </a:rPr>
              <a:t>myedesk</a:t>
            </a:r>
            <a:r>
              <a:rPr b="0" lang="en-US" sz="3200" spc="-1" strike="noStrike" u="sng">
                <a:solidFill>
                  <a:srgbClr val="7f97c2"/>
                </a:solidFill>
                <a:uFillTx/>
                <a:latin typeface="Arial"/>
                <a:hlinkClick r:id="rId4"/>
              </a:rPr>
              <a:t>.org </a:t>
            </a:r>
            <a:r>
              <a:rPr b="0" lang="en-US" sz="3200" spc="-1" strike="noStrike">
                <a:solidFill>
                  <a:srgbClr val="272776"/>
                </a:solidFill>
                <a:latin typeface="Arial"/>
              </a:rPr>
              <a:t>Marzano folder</a:t>
            </a:r>
            <a:endParaRPr b="0" lang="en-US" sz="3200" spc="-1" strike="noStrike">
              <a:solidFill>
                <a:srgbClr val="2727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7:04:09Z</dcterms:created>
  <dc:creator>Patricia Aigner</dc:creator>
  <dc:description/>
  <dc:language>en-US</dc:language>
  <cp:lastModifiedBy>Sheila Walton</cp:lastModifiedBy>
  <cp:lastPrinted>2005-11-01T19:34:42Z</cp:lastPrinted>
  <dcterms:modified xsi:type="dcterms:W3CDTF">2006-11-29T03:09:38Z</dcterms:modified>
  <cp:revision>68</cp:revision>
  <dc:subject/>
  <dc:title>Classroom Instruction that Works</dc:title>
</cp:coreProperties>
</file>