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7B2-C063-4510-A99F-F140ADD0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A04-5A0E-42ED-8399-64177294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7F3-934E-4F49-834E-4CD77D5D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94B-A342-418F-8C82-BFF96870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F9FC-79A8-407A-A339-3653B9B1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8313-91F4-46A9-8A40-9A2936DF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8938-3FB3-40F7-B1CE-3D342386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40D7-6379-4EFA-A445-1ACE894F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3C4B-9D92-430E-9078-6F3DEEA3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C02A-5424-4B0A-B5D7-B6D1F61F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BB7F-99EE-42E0-B9E4-DF09121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538-1A41-4D7F-97CD-ABFEB44F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02AD-2BFB-48F0-A5C5-F0A74B95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0D35-4AC4-45D1-B9BD-ED5E6A33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9EFC-6D42-407F-80EF-96C52E06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FDBE-05C1-47BD-9819-58055CCA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2A4E-2D84-486C-9B5E-529ECEDC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2BC-3FE5-40F8-A713-E984F0A2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E3F-EB49-47B1-9D86-3A59A2C1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F2F-B009-40F0-821F-9B35C7B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EF6-FA91-438F-A712-B20AE388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B02-A86B-4010-A954-19F1F6F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8612-6730-4E59-8721-72986E41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C3D-2530-4B6F-B0C7-A104FFD1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C517-6275-41DB-A35A-6A94AFD271CE}" type="slidenum"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24C2-4642-4184-9F4F-DD3129E4A17C}" type="slidenum"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walton.myedesk.org/public.aspx" TargetMode="External"/><Relationship Id="rId2" Type="http://schemas.openxmlformats.org/officeDocument/2006/relationships/hyperlink" Target="http://swalton.myedesk.org/public.aspx" TargetMode="External"/><Relationship Id="rId3" Type="http://schemas.openxmlformats.org/officeDocument/2006/relationships/hyperlink" Target="http://swalton.myedesk.org/public.aspx" TargetMode="External"/><Relationship Id="rId4" Type="http://schemas.openxmlformats.org/officeDocument/2006/relationships/hyperlink" Target="http://swalton.myedesk.org/public.aspx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Nonlinguistic Representations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2776"/>
                </a:solidFill>
                <a:latin typeface="Arial"/>
              </a:rPr>
              <a:t>Rational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2776"/>
                </a:solidFill>
                <a:latin typeface="Arial"/>
              </a:rPr>
              <a:t>Visual Literacy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277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72776"/>
                </a:solidFill>
                <a:latin typeface="Arial"/>
              </a:rPr>
              <a:t>Lynn Burmark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, Ph.D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86" name="Macintosh HD:Users:sfwalton:Desktop:Marzano:Visual Literacy.mov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Types of Intelligence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ychologist Howard Gardner identified the following distinct types of intelligence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Linguistic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Children with this kind of intelligence enjoy writing, reading, telling stories or doing crossword puzzles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Logical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Children with lots of logical intelligence are interested in patterns, categories and relationships. They are drawn to arithmetic problems, strategy games and experiments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Bodily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These kids process knowledge through bodily sensations. They are often athletic, dancers or good at crafts such as sewing or woodworking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Spatial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These children think in images and pictures. They may be fascinated with mazes or jigsaw puzzles, or spend free time drawing, building with Legos or daydreaming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Musical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Musical children are always singing or drumming to themselves. They are usually quite aware of sounds others may miss. These kids are often discriminating listeners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personal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Children who are leaders among their peers, who are good at communicating and who seem to understand others' feelings and motives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rapersonal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children may be shy. They are very aware of their own feelings and are self-motivated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Many teaching methods are: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Primarily linguistic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Teachers talk about content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Teachers and students read about content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tudents are left to their own devices to develop or make connections through nonlinguistic representations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599"/>
              </a:spcAft>
              <a:buClr>
                <a:srgbClr val="27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Nonlinguistic Representation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A variety of activities produce non-linguistic representations in the brain.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Graphic representatio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Descriptive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Time sequence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rocess/cause-effect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Episode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Generalization/principle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Concept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hysical model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Mental pictur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ictures and pictograph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Kinesthetic activity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Nonlinguistic representations should elaborate on knowledge.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Graphic Organizers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Linguistic mode - use words and phrases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Nonlinguistic mode-use symbols and arrows to represent relationships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Six Common Graphic Organizers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Descriptive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demonstrate fact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Time Sequence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chronological order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Process/Cause-Effect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information is organized into a causal network leading to a specific outcome or product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Episode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 organize information about a specific event to include setting, specific people, a specific duration, a specific sequence of events, and a particular cause and effect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Generalization/Principle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organize information into general statements with supporting example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Concept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organize information around a word or phras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Classroom Resources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Microsoft Word - Symbol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nspiration - On all teacher computers and labs.  See your STS for information and support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eb resources: </a:t>
            </a:r>
            <a:r>
              <a:rPr b="0" lang="en-US" sz="3200" spc="-1" strike="noStrike" u="sng">
                <a:solidFill>
                  <a:srgbClr val="7f97c2"/>
                </a:solidFill>
                <a:uFillTx/>
                <a:latin typeface="Arial"/>
                <a:hlinkClick r:id="rId1"/>
              </a:rPr>
              <a:t>swalton</a:t>
            </a:r>
            <a:r>
              <a:rPr b="0" lang="en-US" sz="3200" spc="-1" strike="noStrike" u="sng">
                <a:solidFill>
                  <a:srgbClr val="7f97c2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3200" spc="-1" strike="noStrike" u="sng">
                <a:solidFill>
                  <a:srgbClr val="7f97c2"/>
                </a:solidFill>
                <a:uFillTx/>
                <a:latin typeface="Arial"/>
                <a:hlinkClick r:id="rId3"/>
              </a:rPr>
              <a:t>myedesk</a:t>
            </a:r>
            <a:r>
              <a:rPr b="0" lang="en-US" sz="3200" spc="-1" strike="noStrike" u="sng">
                <a:solidFill>
                  <a:srgbClr val="7f97c2"/>
                </a:solidFill>
                <a:uFillTx/>
                <a:latin typeface="Arial"/>
                <a:hlinkClick r:id="rId4"/>
              </a:rPr>
              <a:t>.org 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Marzano folder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7:04:09Z</dcterms:created>
  <dc:creator>Patricia Aigner</dc:creator>
  <dc:description/>
  <dc:language>en-US</dc:language>
  <cp:lastModifiedBy>Sheila Walton</cp:lastModifiedBy>
  <cp:lastPrinted>2005-11-01T19:34:42Z</cp:lastPrinted>
  <dcterms:modified xsi:type="dcterms:W3CDTF">2006-11-29T03:09:38Z</dcterms:modified>
  <cp:revision>68</cp:revision>
  <dc:subject/>
  <dc:title>Classroom Instruction that Works</dc:title>
</cp:coreProperties>
</file>